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0019-5EC9-4F58-933D-D7F07FCB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9940-FE21-4FA0-99F3-FD0C5581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4C8E-2A05-46BC-BD2A-68819EE81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legiovascodagama.pt/ciencias3c/onze/biologiaunidade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73A4-4D00-42C3-8D76-F3905ADA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98A7-CC7E-4A14-96E8-A5FA32FBD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3D72-E30B-44F2-96C1-B17D9053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2387-729B-415A-A2A1-306C803A9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worldnews.com/articles/7407/20140604/pigs-successful-hosts-of-transplanted-stem-cel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82E-598C-4B23-AD13-636CD40B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hyretiring2.blogspot.ca/2010_06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E8FA-637F-4479-9753-E4DF591A8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EED9-7140-4F3D-9E72-7D09673B5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incessleia.com/Lamarck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om.on.ca/en/blog/mighty-burgess-shale-fossil-site-discovered-in-kootenay-national-p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9203-9E1B-4CDD-8248-F382EC624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C0A8-BFD7-49DD-9100-FEB3B207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eritagedaily.com/2015/09/testing-the-fossil-record/108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C360-E727-4820-82FC-FC58EE6A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803-0851-4766-A482-AC2E3E74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6E0-B868-46ED-9A71-DD7A1943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A5F-0FA3-4A02-8A39-D4D32DD0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B4D-29BC-4E4C-AEFB-4BB8B87C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BD7-8FBC-42B3-A8BA-C705A6BA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B17-DF78-46AA-851C-4DC0E6D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505-54BF-44AD-AAB6-106FE210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A9F-F6EA-45AA-B306-C4CA4F62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CB5-D316-4744-9BD1-D2B1BAF9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2C4-5E7A-4DA8-8FB3-1331AAF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00A-84A2-46EE-B38A-8900910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D76-FBC9-42DE-A54B-29ADADF8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75D6-6755-4FDF-A2A1-E66AAA91E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volution Of An Ide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astro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vier believed that species had not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uggested that a seri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astrop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caused widespread exti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5" descr="72-Darwin-6.jpg"/>
          <p:cNvPicPr/>
          <p:nvPr/>
        </p:nvPicPr>
        <p:blipFill>
          <a:blip r:embed="rId1"/>
          <a:srcRect l="0" t="-30200" r="0" b="-30200"/>
          <a:stretch/>
        </p:blipFill>
        <p:spPr>
          <a:xfrm>
            <a:off x="0" y="126828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Lyell (British lawyer &amp; geologist) suggested that geological changes are slow and gra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 because it suggested that the Earth was very old &amp; that slow processes could result in large changes such as formation of mountain r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long time people believed that the Earth &amp; all living things had been created and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the 1700s many scientists began to question the immu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scientist Georges-Louis Leclerc, Comte de Buffon wondered about the extra toes on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g"/>
          <p:cNvPicPr/>
          <p:nvPr/>
        </p:nvPicPr>
        <p:blipFill>
          <a:blip r:embed="rId1"/>
          <a:stretch/>
        </p:blipFill>
        <p:spPr>
          <a:xfrm>
            <a:off x="4648320" y="2435400"/>
            <a:ext cx="38098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 Linnaeus &amp; Erasmus Darwin (Charle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ndfather) proposed that living organisms had changed over time, but didn’t know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olution was proposed by Jean-Baptiste Pierre Antoine de Monet, Chevalier de Lamar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’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d dis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5" descr="dim.gif"/>
          <p:cNvPicPr/>
          <p:nvPr/>
        </p:nvPicPr>
        <p:blipFill>
          <a:blip r:embed="rId1"/>
          <a:srcRect l="-13027" t="0" r="-1302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giraffe_lamark"/>
          <p:cNvPicPr/>
          <p:nvPr/>
        </p:nvPicPr>
        <p:blipFill>
          <a:blip r:embed="rId1"/>
          <a:stretch/>
        </p:blipFill>
        <p:spPr>
          <a:xfrm>
            <a:off x="1695600" y="1981080"/>
            <a:ext cx="57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ssil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when dead organisms are mine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onditions are low-oxygen &amp; aquatic (sediment is continually deposi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new_arthropod_rom_62976.jpg"/>
          <p:cNvPicPr/>
          <p:nvPr/>
        </p:nvPicPr>
        <p:blipFill>
          <a:blip r:embed="rId1"/>
          <a:srcRect l="0" t="-30990" r="0" b="-3099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ossil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ossils of organisms that are no longer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fossils of most living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s are often found very deep below the Earth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s are often found in unexpected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s Cuv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ontologist, in his detailed studies of fossils he obser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organisms found throughout, but complex only in shallower layers; shallow organisms resemble living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yers contain unique species that do not occur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7-04-12T02:55:11Z</dcterms:modified>
  <cp:revision>87</cp:revision>
  <dc:subject/>
  <dc:title>PowerPoint Presentation</dc:title>
</cp:coreProperties>
</file>